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5EAAF2-967D-4B79-AC57-04FC4AA40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E391EF-4E76-4600-B652-21D553415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5AAF87-6CB4-441A-962A-2B4D8F5B1D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098C3F-450E-48D4-AAD7-E471CF4519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CF5C0-4DCF-4DB2-99E8-617603A160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E5EE2-CCA5-449E-BED5-FF8A5C866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6B053-A32E-4C7B-B740-7FF0681A51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9C660-7380-4CAD-A180-C372A828F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D1E6F-EBCE-475C-9DD1-DC12C2C75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F6740-0BF0-47FF-A37F-81CD20AF8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944DD-7CA2-4CB3-978C-558AC1494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971118-F52D-4387-9F34-31920C22D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9246B-C983-4E97-83CD-D9FD2AA40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76BB6-621D-40CB-9CCB-4596A8D2A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C1D97-9837-49BB-8401-31847ED5F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35F8D-2051-47F7-AA07-A8BB56ECF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51DB0-21C9-4619-AB18-EB5112932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3EAB4D-3FC4-40B4-8181-32415E3CE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B4AA32-C35F-444C-92A6-47B62967B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C82663-0715-404C-8F21-E70635D47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136D33-0625-407F-B563-CC7105A6F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E5FCBF-DB1D-41EE-9B67-9C8F1183C2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6AF67-97A4-4C0C-BDB8-4FD51065C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35353E-2291-4B0F-86B1-93FCCC6BB9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656D-097D-4367-B5C7-5A97C1CCB8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7C3D-6E6D-4EBC-9B1F-3898CD0AA6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pereira@usp.br" TargetMode="External"/><Relationship Id="rId2" Type="http://schemas.openxmlformats.org/officeDocument/2006/relationships/hyperlink" Target="mailto:pereirace@uol.com.br"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Escolha Social, Estratégia e Racionalidade:</a:t>
            </a:r>
            <a:r>
              <a:rPr b="0" lang="en-US" sz="3600" spc="-1" strike="noStrike">
                <a:solidFill>
                  <a:srgbClr val="ffffff"/>
                </a:solidFill>
                <a:latin typeface="Arial"/>
              </a:rPr>
              <a:t> </a:t>
            </a:r>
            <a:br>
              <a:rPr sz="3600"/>
            </a:br>
            <a:r>
              <a:rPr b="1" lang="pt-BR" sz="2800" spc="-1" strike="noStrike">
                <a:solidFill>
                  <a:srgbClr val="ffffff"/>
                </a:solidFill>
                <a:latin typeface="Arial"/>
              </a:rPr>
              <a:t>Uma Introdução à Teoria dos Jogos na Política</a:t>
            </a:r>
            <a:endParaRPr b="0" lang="en-US" sz="2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ula 8 (13/10/2004): </a:t>
            </a:r>
            <a:endParaRPr b="0" lang="en-US" sz="1400" spc="-1" strike="noStrike">
              <a:solidFill>
                <a:srgbClr val="000000"/>
              </a:solidFill>
              <a:latin typeface="Arial"/>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ncerteza, Coordenação, Compromissos Críveis, Risco Moral e Seleção Adversa</a:t>
            </a:r>
            <a:r>
              <a:rPr b="0" lang="pt-BR" sz="1500" spc="-1" strike="noStrike">
                <a:solidFill>
                  <a:srgbClr val="000000"/>
                </a:solidFill>
                <a:latin typeface="Arial"/>
              </a:rPr>
              <a:t> </a:t>
            </a:r>
            <a:r>
              <a:rPr b="0" lang="pt-BR" sz="1700" spc="-1" strike="noStrike">
                <a:solidFill>
                  <a:srgbClr val="000000"/>
                </a:solidFill>
                <a:latin typeface="Arial"/>
              </a:rPr>
              <a:t> </a:t>
            </a:r>
            <a:r>
              <a:rPr b="0" lang="pt-BR" sz="2100" spc="-1" strike="noStrike">
                <a:solidFill>
                  <a:srgbClr val="000000"/>
                </a:solidFill>
                <a:latin typeface="Arial"/>
              </a:rPr>
              <a:t> </a:t>
            </a:r>
            <a:endParaRPr b="0" lang="en-US" sz="21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rofessor: </a:t>
            </a:r>
            <a:r>
              <a:rPr b="0" lang="pt-BR" sz="1400" spc="-1" strike="noStrike" u="sng">
                <a:solidFill>
                  <a:srgbClr val="000000"/>
                </a:solidFill>
                <a:uFillTx/>
                <a:latin typeface="Arial"/>
              </a:rPr>
              <a:t>Carlos Pereira</a:t>
            </a:r>
            <a:r>
              <a:rPr b="0" lang="pt-BR" sz="1400" spc="-1" strike="noStrike">
                <a:solidFill>
                  <a:srgbClr val="000000"/>
                </a:solidFill>
                <a:latin typeface="Arial"/>
              </a:rPr>
              <a: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t>
            </a:r>
            <a:r>
              <a:rPr b="0" lang="pt-BR" sz="1400" spc="-1" strike="noStrike" u="sng">
                <a:solidFill>
                  <a:srgbClr val="666699"/>
                </a:solidFill>
                <a:uFillTx/>
                <a:latin typeface="Arial"/>
                <a:hlinkClick r:id="rId1"/>
              </a:rPr>
              <a:t>capereira@usp.br</a:t>
            </a:r>
            <a:r>
              <a:rPr b="0" lang="pt-BR" sz="1400" spc="-1" strike="noStrike">
                <a:solidFill>
                  <a:srgbClr val="000000"/>
                </a:solidFill>
                <a:latin typeface="Arial"/>
              </a:rPr>
              <a:t> ou </a:t>
            </a:r>
            <a:r>
              <a:rPr b="0" lang="pt-BR" sz="1400" spc="-1" strike="noStrike" u="sng">
                <a:solidFill>
                  <a:srgbClr val="666699"/>
                </a:solidFill>
                <a:uFillTx/>
                <a:latin typeface="Arial"/>
                <a:hlinkClick r:id="rId2"/>
              </a:rPr>
              <a:t>pereirace@uol.com.br</a:t>
            </a:r>
            <a:r>
              <a:rPr b="0" lang="pt-BR"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17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imando Pontes Atrás de Você:</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xércitos constroem compromisso críveis eliminando a possibilidade de bater em retirada (independência do Banco Centra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este caso, não há outra alternativa na mente do general Cortés senão vencer ou morrer na sua conquista do México.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nunciar a independência do banco central (Tony Blai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Às vezes, construir pontes ao invés de destruí-las pode ser uma estratégia de fortalecer compromissos. Respondendo a protestos massivos, o Primeiro Ministro da Alemanha Oriental anunciou reformas, mas não especificou quais seriam. Por que a população haveria de acha-las confiáveis? O desmantelamento do Muro de Berlim ajudou o governo da Alemanha Oriental a tornar crível sua promessa de reforma, sem ter que especificar qual seria o pacote. Reabrir a ponte para o ocidente forçou o governo a estruturar sua reforma ou correr o risco do êxodo. De fato a reunificação estava a, menos de um ano para ocorr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ixar o Resultado para Além de Seu Controle:</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struir uma ameaça irrevogável, disparada pelo descumprimento do acordo pode tornar cível um compromisso. Essa estratégia assegura a execução da punição, mas carrega o problema de que pode haver uma falha, uma má interpretação da jogada do rival, ou qualquer outra coisa que não lhe coloque na posição de assumir sua ameaç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criação deliberada de um risco que você não pode controlar completamente, é uma tática de deixar a situação propositalmente, de alguma forma, fora de suas mãos. Isto significa expor o adversário a um risco compartilhado e mostrar-lhe que se fizer alguma jogada contrária poderá causar um distúrbio que levará a conseqüência que ambos podem não desejar (</a:t>
            </a:r>
            <a:r>
              <a:rPr b="0" lang="en-US" sz="2000" spc="-1" strike="noStrike">
                <a:solidFill>
                  <a:srgbClr val="000000"/>
                </a:solidFill>
                <a:latin typeface="Arial"/>
              </a:rPr>
              <a:t>Thomans Schelling, </a:t>
            </a:r>
            <a:r>
              <a:rPr b="0" i="1" lang="en-US" sz="2000" spc="-1" strike="noStrike">
                <a:solidFill>
                  <a:srgbClr val="000000"/>
                </a:solidFill>
                <a:latin typeface="Arial"/>
              </a:rPr>
              <a:t>The Strategy of Conflict</a:t>
            </a:r>
            <a:r>
              <a:rPr b="0" lang="en-US" sz="2000" spc="-1" strike="noStrike">
                <a:solidFill>
                  <a:srgbClr val="000000"/>
                </a:solidFill>
                <a:latin typeface="Arial"/>
              </a:rPr>
              <a:t>)</a:t>
            </a:r>
            <a:r>
              <a:rPr b="0" lang="pt-B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Movendo-se Passo-a-Passo:</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ora duas partes podem não confiar uma na outra quando a aposta é grande, se o problema do compromisso puder ser reduzido a uma escala suficientemente pequena, neste caso, a credibilidade poderá resolver. As promessas e ameaças são divididas em pequenas partes e resolvidas separadament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do se contrata um serviço, o contratante teme que se pague adiantado, o contratado pode não executar o serviço. Por outro lado, o contratado teme que se faça o serviço, o contratante pode se recusar de efetivar o pagamento. Ambos resolvem seus problemas pagando aos poucos, à medida que o serviço vai sendo executad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 se você espera ser trapaceado na última jogada, então raciocinando antecipadamente, terminará a relação uma jogada antes, tornando a penúltima jogada em última e assim apenas transferindo o problema. Aqui, a escapatória é deixar o número de jogadas indeterminadas e ficar especialmente cauteloso quando alguém de caráter suspeito lhe disser que esta é sua última jogada antes de se retira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balho em equipe:</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s vezes, outros podem nos ajudar a conquistar credibilidade em nossos compromissos. Embora as pessoas possam ser fracas sozinhas, elas podem fortalecer-se formando um grup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ndo o problema da linha de frente de um exército, se todos os soldados avançam, aquele que sozinho for ficando para trás aos poucos vais aumentando suas chances de sobreviver, sem comprometer significativamente as chances do exército ser bem sucedido no seu ataque. No entanto, se todo soldado pensar da mesma maneira, o ataque se tornará uma retirada.</a:t>
            </a:r>
            <a:r>
              <a:rPr b="0" lang="en-US" sz="2000" spc="-1" strike="noStrike">
                <a:solidFill>
                  <a:srgbClr val="000000"/>
                </a:solidFill>
                <a:latin typeface="Arial"/>
              </a:rPr>
              <a:t>	</a:t>
            </a:r>
            <a:r>
              <a:rPr b="0" lang="en-US" sz="2000" spc="-1" strike="noStrike">
                <a:solidFill>
                  <a:srgbClr val="000000"/>
                </a:solidFill>
                <a:latin typeface="Arial"/>
              </a:rPr>
              <a:t>Por isso os soldados são condicionados pela honra de seu país, lealdade aos seus companheiros soldados e motivados pelas penalidades de uma deserçã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es de Negociação:</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um trabalhador diz que não aceitará nada menos que 5% de aumento, porque o empregador não acreditaria que ele poderia retroceder e aceitar 4%?</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tuação do trabalhador pode ser melhorada se ele tiver alguém negociando para ele. Quando um líder sindical está negociando, sua posição pode ser mais inflexível. Ele pode ser forçado a manter sua posição ou perder a confiança de seu eleitor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s:</a:t>
            </a:r>
            <a:endParaRPr b="0" lang="en-US" sz="4400" spc="-1" strike="noStrike">
              <a:solidFill>
                <a:srgbClr val="000000"/>
              </a:solidFill>
              <a:latin typeface="Arial"/>
            </a:endParaRPr>
          </a:p>
        </p:txBody>
      </p:sp>
      <p:sp>
        <p:nvSpPr>
          <p:cNvPr id="135"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ida pelo Seu País:</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um exército pode fazer o inimigo acreditar que seus soldados estão dispostos a sacrificar suas vidas pelo seu país? A maioria dos exércitos terminaria se seus soldados fizessem um cálculo racional do custo-benefício em arriscar suas vidas. Soldados são treinados para automática e inquestionável obediência. Treinado para não questionar ordens, exércitos transformam-se em máquinas de luta; compromisso é automático. A aparente irracionalidade dos soldados individualmente, transforma-se em racionalidade estratégica sob o ponto de vista do exército.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a Oferta que Você Não Pode Recusa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a oferta válida agora, mas não necessariamente depois, evita que consumidores façam pesquisa de preços. Mas como os vendedores podem obter crédito numa ameaça de não aceitarem uma oferta amanhã, as quais estariam dispostas a aceitar hoje? A resposta é que negócios podem virar e problemas de fluxo de caixa devem ser diminuídos. Como vendedores costumam dizer, é “uma oportunidade única na vida”.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0" spc="-1" strike="noStrike">
                <a:solidFill>
                  <a:srgbClr val="ffffff"/>
                </a:solidFill>
                <a:latin typeface="Arial"/>
              </a:rPr>
              <a:t>The Institutional Foundations of Committee Power</a:t>
            </a:r>
            <a:endParaRPr b="0" lang="en-US" sz="5000" spc="-1" strike="noStrike">
              <a:solidFill>
                <a:srgbClr val="ffffff"/>
              </a:solidFill>
              <a:latin typeface="Arial"/>
            </a:endParaRPr>
          </a:p>
        </p:txBody>
      </p:sp>
      <p:sp>
        <p:nvSpPr>
          <p:cNvPr id="13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000000"/>
                </a:solidFill>
                <a:latin typeface="Arial"/>
              </a:rPr>
              <a:t>Kenneth A. Shepsle</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000000"/>
                </a:solidFill>
                <a:latin typeface="Arial"/>
              </a:rPr>
              <a:t>Barry R. Weingast</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400" spc="-1" strike="noStrike">
                <a:solidFill>
                  <a:srgbClr val="000000"/>
                </a:solidFill>
                <a:latin typeface="Arial"/>
              </a:rPr>
              <a:t>American Political Science Review 1987</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er das Comissões</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á diversas literaturas que reconhecem o poder das comissões do Congresso nos EUA.  Porém elas tendem a descrever e não explicar de onde vem esse poder.</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que uma maioria se submeteria às vontades de minorias?</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 autores notam que existe uma deferência para com as comissõ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er das Comissões</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mbora o plenário tenha instrumentos para tirar projetos das comissões (discharge petition, pedido de urgência) elas raramente são usadas nos EU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sso se deve a deferência ou é algo mais complexo</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er das Comissões</a:t>
            </a:r>
            <a:endParaRPr b="0" lang="en-US" sz="4400" spc="-1" strike="noStrike">
              <a:solidFill>
                <a:srgbClr val="000000"/>
              </a:solidFill>
              <a:latin typeface="Arial"/>
            </a:endParaRPr>
          </a:p>
        </p:txBody>
      </p:sp>
      <p:sp>
        <p:nvSpPr>
          <p:cNvPr id="143"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poder das comissões advém de (</a:t>
            </a:r>
            <a:r>
              <a:rPr b="0" i="1" lang="pt-BR" sz="3200" spc="-1" strike="noStrike">
                <a:solidFill>
                  <a:srgbClr val="000000"/>
                </a:solidFill>
                <a:latin typeface="Arial"/>
              </a:rPr>
              <a:t>ex ante powers</a:t>
            </a:r>
            <a:r>
              <a:rPr b="0" lang="pt-BR" sz="3200" spc="-1" strike="noStrike">
                <a:solidFill>
                  <a:srgbClr val="000000"/>
                </a:solidFill>
                <a:latin typeface="Arial"/>
              </a:rPr>
              <a:t>):</a:t>
            </a:r>
            <a:endParaRPr b="0" lang="en-US" sz="32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gatekeeping power </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antagens de informação</a:t>
            </a:r>
            <a:endParaRPr b="0" lang="en-US" sz="2800" spc="-1" strike="noStrike">
              <a:solidFill>
                <a:srgbClr val="000000"/>
              </a:solidFill>
              <a:latin typeface="Arial"/>
            </a:endParaRPr>
          </a:p>
          <a:p>
            <a:pPr lvl="1" marL="735480" indent="-2829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oder de proposta</a:t>
            </a:r>
            <a:endParaRPr b="0" lang="en-US" sz="28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 teoria da deferência coloca que ninguém tem incentivo de roubar no sistema de divisão de trabalho que é o sistema de comissões.  Os ganhos são pequenos e não compensam os cus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A verbal contract isn’t worth the paper it’s written on”</a:t>
            </a:r>
            <a:r>
              <a:rPr b="0" lang="pt-BR" sz="4000" spc="-1" strike="noStrike">
                <a:solidFill>
                  <a:srgbClr val="000000"/>
                </a:solidFill>
                <a:latin typeface="Arial"/>
              </a:rPr>
              <a:t> </a:t>
            </a: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bilidade é um problema de toda jogada estratégica.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sua jogada incondicional, ou ameaça, ou promessa é somente oral, porque você deve levar isto adiante, se isto se torna contra os seus interess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a ação que pode ser mudada perde seu efeito estratégico contra um rival que pensa estrategicamente. Ele percebe que seus interesses não casam com suas ações e que então está diante de um possível blefe.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bilidade exige encontrar um caminho que não permita voltar atrá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er das Comissões</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s comissões podem forçar cooperação através de:</a:t>
            </a:r>
            <a:endParaRPr b="0" lang="en-US" sz="3200" spc="-1" strike="noStrike">
              <a:solidFill>
                <a:srgbClr val="000000"/>
              </a:solidFill>
              <a:latin typeface="Arial"/>
            </a:endParaRPr>
          </a:p>
          <a:p>
            <a:pPr lvl="1" marL="660960" indent="-2541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unição - sanções contra quem não manter os tratos.</a:t>
            </a:r>
            <a:endParaRPr b="0" lang="en-US" sz="2800" spc="-1" strike="noStrike">
              <a:solidFill>
                <a:srgbClr val="000000"/>
              </a:solidFill>
              <a:latin typeface="Arial"/>
            </a:endParaRPr>
          </a:p>
          <a:p>
            <a:pPr lvl="1" marL="660960" indent="-2541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fesas ex-ante - a comissão faz seus projetos pensando estrategicamente na reação dos outros.</a:t>
            </a:r>
            <a:endParaRPr b="0" lang="en-US" sz="2800" spc="-1" strike="noStrike">
              <a:solidFill>
                <a:srgbClr val="000000"/>
              </a:solidFill>
              <a:latin typeface="Arial"/>
            </a:endParaRPr>
          </a:p>
          <a:p>
            <a:pPr lvl="1" marL="660960" indent="-2541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fesas ex-post - o argumento desse paper, e segundo os autores a peça chave no poder das comissõ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42120" y="523080"/>
            <a:ext cx="9688680" cy="7154280"/>
            <a:chOff x="-42120" y="523080"/>
            <a:chExt cx="9688680" cy="7154280"/>
          </a:xfrm>
        </p:grpSpPr>
        <p:sp>
          <p:nvSpPr>
            <p:cNvPr id="147" name=""/>
            <p:cNvSpPr/>
            <p:nvPr/>
          </p:nvSpPr>
          <p:spPr>
            <a:xfrm flipV="1">
              <a:off x="1922040" y="3782520"/>
              <a:ext cx="5369400" cy="119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V="1">
              <a:off x="1922040" y="2433960"/>
              <a:ext cx="2095200" cy="254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017600" y="2433960"/>
              <a:ext cx="3273840" cy="134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64560" y="483228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a:t>
              </a:r>
              <a:endParaRPr b="0" lang="en-US" sz="1200" spc="-1" strike="noStrike">
                <a:solidFill>
                  <a:srgbClr val="000000"/>
                </a:solidFill>
                <a:latin typeface="Arial"/>
              </a:endParaRPr>
            </a:p>
          </p:txBody>
        </p:sp>
        <p:sp>
          <p:nvSpPr>
            <p:cNvPr id="151" name=""/>
            <p:cNvSpPr/>
            <p:nvPr/>
          </p:nvSpPr>
          <p:spPr>
            <a:xfrm>
              <a:off x="1373040" y="500436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152" name=""/>
            <p:cNvSpPr/>
            <p:nvPr/>
          </p:nvSpPr>
          <p:spPr>
            <a:xfrm>
              <a:off x="3498480" y="1834920"/>
              <a:ext cx="360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153" name=""/>
            <p:cNvSpPr/>
            <p:nvPr/>
          </p:nvSpPr>
          <p:spPr>
            <a:xfrm>
              <a:off x="7556760" y="3633480"/>
              <a:ext cx="360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154" name=""/>
            <p:cNvSpPr/>
            <p:nvPr/>
          </p:nvSpPr>
          <p:spPr>
            <a:xfrm>
              <a:off x="-42120" y="3043080"/>
              <a:ext cx="3666960" cy="3895920"/>
            </a:xfrm>
            <a:custGeom>
              <a:avLst/>
              <a:gdLst/>
              <a:ahLst/>
              <a:rect l="l" t="t" r="r" b="b"/>
              <a:pathLst>
                <a:path stroke="0" w="21600" h="21600">
                  <a:moveTo>
                    <a:pt x="12543" y="142"/>
                  </a:moveTo>
                  <a:arcTo wR="10800" hR="10800" stAng="-4842818" swAng="4333498"/>
                  <a:lnTo>
                    <a:pt x="10800" y="10800"/>
                  </a:lnTo>
                  <a:close/>
                </a:path>
                <a:path fill="none" w="21600" h="21600">
                  <a:moveTo>
                    <a:pt x="12543" y="142"/>
                  </a:moveTo>
                  <a:arcTo wR="10800" hR="10800" stAng="-4842818" swAng="433349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2077200" y="523080"/>
              <a:ext cx="3772800" cy="4192920"/>
            </a:xfrm>
            <a:custGeom>
              <a:avLst/>
              <a:gdLst/>
              <a:ahLst/>
              <a:rect l="l" t="t" r="r" b="b"/>
              <a:pathLst>
                <a:path stroke="0" w="21600" h="21600">
                  <a:moveTo>
                    <a:pt x="21315" y="13267"/>
                  </a:moveTo>
                  <a:arcTo wR="10800" hR="10800" stAng="792187" swAng="11955183"/>
                  <a:lnTo>
                    <a:pt x="10800" y="10800"/>
                  </a:lnTo>
                  <a:close/>
                </a:path>
                <a:path fill="none" w="21600" h="21600">
                  <a:moveTo>
                    <a:pt x="21315" y="13267"/>
                  </a:moveTo>
                  <a:arcTo wR="10800" hR="10800" stAng="792187" swAng="1195518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H="1">
              <a:off x="3623760" y="1235880"/>
              <a:ext cx="6022440" cy="6441480"/>
            </a:xfrm>
            <a:custGeom>
              <a:avLst/>
              <a:gdLst/>
              <a:ahLst/>
              <a:rect l="l" t="t" r="r" b="b"/>
              <a:pathLst>
                <a:path stroke="0" w="21600" h="21600">
                  <a:moveTo>
                    <a:pt x="14656" y="712"/>
                  </a:moveTo>
                  <a:arcTo wR="10800" hR="10800" stAng="-4144778" swAng="4425722"/>
                  <a:lnTo>
                    <a:pt x="10800" y="10800"/>
                  </a:lnTo>
                  <a:close/>
                </a:path>
                <a:path fill="none" w="21600" h="21600">
                  <a:moveTo>
                    <a:pt x="14656" y="712"/>
                  </a:moveTo>
                  <a:arcTo wR="10800" hR="10800" stAng="-4144778" swAng="442572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874200" y="165672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SQ)</a:t>
              </a:r>
              <a:endParaRPr b="0" lang="en-US" sz="1600" spc="-1" strike="noStrike">
                <a:solidFill>
                  <a:srgbClr val="000000"/>
                </a:solidFill>
                <a:latin typeface="Arial"/>
              </a:endParaRPr>
            </a:p>
          </p:txBody>
        </p:sp>
        <p:sp>
          <p:nvSpPr>
            <p:cNvPr id="158" name=""/>
            <p:cNvSpPr/>
            <p:nvPr/>
          </p:nvSpPr>
          <p:spPr>
            <a:xfrm flipH="1">
              <a:off x="5457600" y="1984320"/>
              <a:ext cx="157140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010040" y="2579760"/>
            <a:ext cx="3011400" cy="113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flipV="1">
            <a:off x="2082960" y="3709800"/>
            <a:ext cx="4938480" cy="10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146720" y="3584520"/>
            <a:ext cx="360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162" name=""/>
          <p:cNvSpPr/>
          <p:nvPr/>
        </p:nvSpPr>
        <p:spPr>
          <a:xfrm>
            <a:off x="1601280" y="46893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163" name=""/>
          <p:cNvSpPr/>
          <p:nvPr/>
        </p:nvSpPr>
        <p:spPr>
          <a:xfrm>
            <a:off x="3531960" y="1952640"/>
            <a:ext cx="360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164" name=""/>
          <p:cNvSpPr/>
          <p:nvPr/>
        </p:nvSpPr>
        <p:spPr>
          <a:xfrm>
            <a:off x="3287160" y="458964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a:t>
            </a:r>
            <a:endParaRPr b="0" lang="en-US" sz="1200" spc="-1" strike="noStrike">
              <a:solidFill>
                <a:srgbClr val="000000"/>
              </a:solidFill>
              <a:latin typeface="Arial"/>
            </a:endParaRPr>
          </a:p>
        </p:txBody>
      </p:sp>
      <p:sp>
        <p:nvSpPr>
          <p:cNvPr id="165" name=""/>
          <p:cNvSpPr/>
          <p:nvPr/>
        </p:nvSpPr>
        <p:spPr>
          <a:xfrm flipV="1">
            <a:off x="2082960" y="2579400"/>
            <a:ext cx="1927080" cy="213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H="1">
            <a:off x="3647520" y="1546200"/>
            <a:ext cx="5540040" cy="5394960"/>
          </a:xfrm>
          <a:custGeom>
            <a:avLst/>
            <a:gdLst/>
            <a:ahLst/>
            <a:rect l="l" t="t" r="r" b="b"/>
            <a:pathLst>
              <a:path stroke="0" w="21600" h="21600">
                <a:moveTo>
                  <a:pt x="14805" y="770"/>
                </a:moveTo>
                <a:arcTo wR="10800" hR="10800" stAng="-4093831" swAng="4374775"/>
                <a:lnTo>
                  <a:pt x="10800" y="10800"/>
                </a:lnTo>
                <a:close/>
              </a:path>
              <a:path fill="none" w="21600" h="21600">
                <a:moveTo>
                  <a:pt x="14805" y="770"/>
                </a:moveTo>
                <a:arcTo wR="10800" hR="10800" stAng="-4093831" swAng="43747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2156040" y="947880"/>
            <a:ext cx="3471120" cy="3514320"/>
          </a:xfrm>
          <a:custGeom>
            <a:avLst/>
            <a:gdLst/>
            <a:ahLst/>
            <a:rect l="l" t="t" r="r" b="b"/>
            <a:pathLst>
              <a:path stroke="0" w="21600" h="21600">
                <a:moveTo>
                  <a:pt x="21315" y="13267"/>
                </a:moveTo>
                <a:arcTo wR="10800" hR="10800" stAng="792187" swAng="11925751"/>
                <a:lnTo>
                  <a:pt x="10800" y="10800"/>
                </a:lnTo>
                <a:close/>
              </a:path>
              <a:path fill="none" w="21600" h="21600">
                <a:moveTo>
                  <a:pt x="21315" y="13267"/>
                </a:moveTo>
                <a:arcTo wR="10800" hR="10800" stAng="792187" swAng="1192575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75040" y="3082320"/>
            <a:ext cx="3373560" cy="3264840"/>
          </a:xfrm>
          <a:custGeom>
            <a:avLst/>
            <a:gdLst/>
            <a:ahLst/>
            <a:rect l="l" t="t" r="r" b="b"/>
            <a:pathLst>
              <a:path stroke="0" w="21600" h="21600">
                <a:moveTo>
                  <a:pt x="12543" y="142"/>
                </a:moveTo>
                <a:arcTo wR="10800" hR="10800" stAng="-4842818" swAng="4333498"/>
                <a:lnTo>
                  <a:pt x="10800" y="10800"/>
                </a:lnTo>
                <a:close/>
              </a:path>
              <a:path fill="none" w="21600" h="21600">
                <a:moveTo>
                  <a:pt x="12543" y="142"/>
                </a:moveTo>
                <a:arcTo wR="10800" hR="10800" stAng="-4842818" swAng="433349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000440" y="3325320"/>
            <a:ext cx="2288520" cy="2400840"/>
          </a:xfrm>
          <a:custGeom>
            <a:avLst/>
            <a:gdLst/>
            <a:ahLst/>
            <a:rect l="l" t="t" r="r" b="b"/>
            <a:pathLst>
              <a:path stroke="0" w="21600" h="21600">
                <a:moveTo>
                  <a:pt x="18709" y="3446"/>
                </a:moveTo>
                <a:arcTo wR="10800" hR="10800" stAng="-2575032" swAng="3713859"/>
                <a:lnTo>
                  <a:pt x="10800" y="10800"/>
                </a:lnTo>
                <a:close/>
              </a:path>
              <a:path fill="none" w="21600" h="21600">
                <a:moveTo>
                  <a:pt x="18709" y="3446"/>
                </a:moveTo>
                <a:arcTo wR="10800" hR="10800" stAng="-2575032" swAng="3713859"/>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2441880" y="1294560"/>
            <a:ext cx="2651400" cy="2664360"/>
          </a:xfrm>
          <a:custGeom>
            <a:avLst/>
            <a:gdLst/>
            <a:ahLst/>
            <a:rect l="l" t="t" r="r" b="b"/>
            <a:pathLst>
              <a:path stroke="0" w="21600" h="21600">
                <a:moveTo>
                  <a:pt x="17276" y="19443"/>
                </a:moveTo>
                <a:arcTo wR="10800" hR="10800" stAng="3189545" swAng="12886974"/>
                <a:lnTo>
                  <a:pt x="10800" y="10800"/>
                </a:lnTo>
                <a:close/>
              </a:path>
              <a:path fill="none" w="21600" h="21600">
                <a:moveTo>
                  <a:pt x="17276" y="19443"/>
                </a:moveTo>
                <a:arcTo wR="10800" hR="10800" stAng="3189545" swAng="12886974"/>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2925000" y="192600"/>
            <a:ext cx="6985080" cy="6783480"/>
          </a:xfrm>
          <a:custGeom>
            <a:avLst/>
            <a:gdLst/>
            <a:ahLst/>
            <a:rect l="l" t="t" r="r" b="b"/>
            <a:pathLst>
              <a:path stroke="0" w="21600" h="21600">
                <a:moveTo>
                  <a:pt x="18785" y="3528"/>
                </a:moveTo>
                <a:arcTo wR="10800" hR="10800" stAng="-2539467" swAng="3962123"/>
                <a:lnTo>
                  <a:pt x="10800" y="10800"/>
                </a:lnTo>
                <a:close/>
              </a:path>
              <a:path fill="none" w="21600" h="21600">
                <a:moveTo>
                  <a:pt x="18785" y="3528"/>
                </a:moveTo>
                <a:arcTo wR="10800" hR="10800" stAng="-2539467" swAng="3962123"/>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362320" y="3352680"/>
            <a:ext cx="30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173" name=""/>
          <p:cNvSpPr/>
          <p:nvPr/>
        </p:nvSpPr>
        <p:spPr>
          <a:xfrm>
            <a:off x="3890160" y="534348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SQ) </a:t>
            </a:r>
            <a:r>
              <a:rPr b="0" lang="en-US" sz="1600" spc="-1" strike="noStrike">
                <a:solidFill>
                  <a:srgbClr val="000000"/>
                </a:solidFill>
                <a:latin typeface="Symbol"/>
                <a:ea typeface="Symbol"/>
              </a:rPr>
              <a:t></a:t>
            </a:r>
            <a:r>
              <a:rPr b="0" lang="en-US" sz="1600" spc="-1" strike="noStrike">
                <a:solidFill>
                  <a:srgbClr val="000000"/>
                </a:solidFill>
                <a:latin typeface="Times New Roman"/>
              </a:rPr>
              <a:t>W(B)</a:t>
            </a:r>
            <a:endParaRPr b="0" lang="en-US" sz="1600" spc="-1" strike="noStrike">
              <a:solidFill>
                <a:srgbClr val="000000"/>
              </a:solidFill>
              <a:latin typeface="Arial"/>
            </a:endParaRPr>
          </a:p>
        </p:txBody>
      </p:sp>
      <p:sp>
        <p:nvSpPr>
          <p:cNvPr id="174" name=""/>
          <p:cNvSpPr/>
          <p:nvPr/>
        </p:nvSpPr>
        <p:spPr>
          <a:xfrm>
            <a:off x="3768840" y="3333600"/>
            <a:ext cx="0" cy="628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010040" y="2957400"/>
            <a:ext cx="0" cy="10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249800" y="2705040"/>
            <a:ext cx="0" cy="1131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91000" y="2328840"/>
            <a:ext cx="0" cy="13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732200" y="2077920"/>
            <a:ext cx="0" cy="13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973760" y="2203560"/>
            <a:ext cx="0" cy="87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046320" y="3459240"/>
            <a:ext cx="0" cy="87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4087800"/>
            <a:ext cx="0" cy="250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flipH="1" flipV="1">
            <a:off x="4370400" y="3458880"/>
            <a:ext cx="241200" cy="150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684520" y="4213080"/>
            <a:ext cx="241200" cy="12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3165480" y="3584520"/>
            <a:ext cx="0" cy="25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H="1" flipV="1">
            <a:off x="4490280" y="2704320"/>
            <a:ext cx="120600" cy="12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86" name=""/>
          <p:cNvSpPr/>
          <p:nvPr/>
        </p:nvSpPr>
        <p:spPr>
          <a:xfrm>
            <a:off x="4372200" y="220356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187" name=""/>
          <p:cNvSpPr/>
          <p:nvPr/>
        </p:nvSpPr>
        <p:spPr>
          <a:xfrm>
            <a:off x="2684520" y="5468760"/>
            <a:ext cx="12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590920" y="35053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Veto Ex-Post</a:t>
            </a:r>
            <a:endParaRPr b="0" lang="en-US" sz="4400" spc="-1" strike="noStrike">
              <a:solidFill>
                <a:srgbClr val="000000"/>
              </a:solidFill>
              <a:latin typeface="Arial"/>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gora suponha que a comissão possua um veto ex-post.  No caso do congresso americano isso se dá através da </a:t>
            </a:r>
            <a:r>
              <a:rPr b="0" i="1" lang="pt-BR" sz="3200" spc="-1" strike="noStrike">
                <a:solidFill>
                  <a:srgbClr val="000000"/>
                </a:solidFill>
                <a:latin typeface="Arial"/>
              </a:rPr>
              <a:t>conference committee </a:t>
            </a:r>
            <a:r>
              <a:rPr b="0" lang="pt-BR" sz="3200" spc="-1" strike="noStrike">
                <a:solidFill>
                  <a:srgbClr val="000000"/>
                </a:solidFill>
                <a:latin typeface="Arial"/>
              </a:rPr>
              <a:t>na qual os projetos do Senado e da Câmara são compatibilizados.</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s membros da </a:t>
            </a:r>
            <a:r>
              <a:rPr b="0" i="1" lang="pt-BR" sz="3200" spc="-1" strike="noStrike">
                <a:solidFill>
                  <a:srgbClr val="000000"/>
                </a:solidFill>
                <a:latin typeface="Arial"/>
              </a:rPr>
              <a:t>conference committee </a:t>
            </a:r>
            <a:r>
              <a:rPr b="0" lang="pt-BR" sz="3200" spc="-1" strike="noStrike">
                <a:solidFill>
                  <a:srgbClr val="000000"/>
                </a:solidFill>
                <a:latin typeface="Arial"/>
              </a:rPr>
              <a:t>são, em geral, membros da comissão orig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010040" y="2579760"/>
            <a:ext cx="3011400" cy="113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V="1">
            <a:off x="2082960" y="3709800"/>
            <a:ext cx="4938480" cy="10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146720" y="3584520"/>
            <a:ext cx="360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194" name=""/>
          <p:cNvSpPr/>
          <p:nvPr/>
        </p:nvSpPr>
        <p:spPr>
          <a:xfrm>
            <a:off x="2516400" y="26668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195" name=""/>
          <p:cNvSpPr/>
          <p:nvPr/>
        </p:nvSpPr>
        <p:spPr>
          <a:xfrm>
            <a:off x="3531960" y="1952640"/>
            <a:ext cx="360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196" name=""/>
          <p:cNvSpPr/>
          <p:nvPr/>
        </p:nvSpPr>
        <p:spPr>
          <a:xfrm>
            <a:off x="3287160" y="458964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a:t>
            </a:r>
            <a:endParaRPr b="0" lang="en-US" sz="1200" spc="-1" strike="noStrike">
              <a:solidFill>
                <a:srgbClr val="000000"/>
              </a:solidFill>
              <a:latin typeface="Arial"/>
            </a:endParaRPr>
          </a:p>
        </p:txBody>
      </p:sp>
      <p:sp>
        <p:nvSpPr>
          <p:cNvPr id="197" name=""/>
          <p:cNvSpPr/>
          <p:nvPr/>
        </p:nvSpPr>
        <p:spPr>
          <a:xfrm flipV="1">
            <a:off x="2082960" y="2579400"/>
            <a:ext cx="1927080" cy="213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flipH="1">
            <a:off x="3647520" y="1546200"/>
            <a:ext cx="5540040" cy="5394960"/>
          </a:xfrm>
          <a:custGeom>
            <a:avLst/>
            <a:gdLst/>
            <a:ahLst/>
            <a:rect l="l" t="t" r="r" b="b"/>
            <a:pathLst>
              <a:path stroke="0" w="21600" h="21600">
                <a:moveTo>
                  <a:pt x="14805" y="770"/>
                </a:moveTo>
                <a:arcTo wR="10800" hR="10800" stAng="-4093831" swAng="4374775"/>
                <a:lnTo>
                  <a:pt x="10800" y="10800"/>
                </a:lnTo>
                <a:close/>
              </a:path>
              <a:path fill="none" w="21600" h="21600">
                <a:moveTo>
                  <a:pt x="14805" y="770"/>
                </a:moveTo>
                <a:arcTo wR="10800" hR="10800" stAng="-4093831" swAng="43747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flipH="1">
            <a:off x="2156040" y="948600"/>
            <a:ext cx="3471120" cy="3515040"/>
          </a:xfrm>
          <a:custGeom>
            <a:avLst/>
            <a:gdLst/>
            <a:ahLst/>
            <a:rect l="l" t="t" r="r" b="b"/>
            <a:pathLst>
              <a:path stroke="0" w="21600" h="21600">
                <a:moveTo>
                  <a:pt x="21315" y="13267"/>
                </a:moveTo>
                <a:arcTo wR="10800" hR="10800" stAng="792187" swAng="11953326"/>
                <a:lnTo>
                  <a:pt x="10800" y="10800"/>
                </a:lnTo>
                <a:close/>
              </a:path>
              <a:path fill="none" w="21600" h="21600">
                <a:moveTo>
                  <a:pt x="21315" y="13267"/>
                </a:moveTo>
                <a:arcTo wR="10800" hR="10800" stAng="792187" swAng="11953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76120" y="3090960"/>
            <a:ext cx="3373200" cy="3255480"/>
          </a:xfrm>
          <a:custGeom>
            <a:avLst/>
            <a:gdLst/>
            <a:ahLst/>
            <a:rect l="l" t="t" r="r" b="b"/>
            <a:pathLst>
              <a:path stroke="0" w="21600" h="21600">
                <a:moveTo>
                  <a:pt x="21471" y="9136"/>
                </a:moveTo>
                <a:arcTo wR="10800" hR="10800" stAng="-531809" swAng="21502608"/>
                <a:lnTo>
                  <a:pt x="10800" y="10800"/>
                </a:lnTo>
                <a:close/>
              </a:path>
              <a:path fill="none" w="21600" h="21600">
                <a:moveTo>
                  <a:pt x="21471" y="9136"/>
                </a:moveTo>
                <a:arcTo wR="10800" hR="10800" stAng="-531809" swAng="2150260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000440" y="3325320"/>
            <a:ext cx="2288520" cy="2400840"/>
          </a:xfrm>
          <a:custGeom>
            <a:avLst/>
            <a:gdLst/>
            <a:ahLst/>
            <a:rect l="l" t="t" r="r" b="b"/>
            <a:pathLst>
              <a:path stroke="0" w="21600" h="21600">
                <a:moveTo>
                  <a:pt x="18709" y="3446"/>
                </a:moveTo>
                <a:arcTo wR="10800" hR="10800" stAng="-2575032" swAng="3713859"/>
                <a:lnTo>
                  <a:pt x="10800" y="10800"/>
                </a:lnTo>
                <a:close/>
              </a:path>
              <a:path fill="none" w="21600" h="21600">
                <a:moveTo>
                  <a:pt x="18709" y="3446"/>
                </a:moveTo>
                <a:arcTo wR="10800" hR="10800" stAng="-2575032" swAng="3713859"/>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flipH="1">
            <a:off x="2441880" y="1294560"/>
            <a:ext cx="2651400" cy="2664360"/>
          </a:xfrm>
          <a:custGeom>
            <a:avLst/>
            <a:gdLst/>
            <a:ahLst/>
            <a:rect l="l" t="t" r="r" b="b"/>
            <a:pathLst>
              <a:path stroke="0" w="21600" h="21600">
                <a:moveTo>
                  <a:pt x="17276" y="19443"/>
                </a:moveTo>
                <a:arcTo wR="10800" hR="10800" stAng="3189545" swAng="12886974"/>
                <a:lnTo>
                  <a:pt x="10800" y="10800"/>
                </a:lnTo>
                <a:close/>
              </a:path>
              <a:path fill="none" w="21600" h="21600">
                <a:moveTo>
                  <a:pt x="17276" y="19443"/>
                </a:moveTo>
                <a:arcTo wR="10800" hR="10800" stAng="3189545" swAng="12886974"/>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a:off x="2925000" y="192600"/>
            <a:ext cx="6985080" cy="6783480"/>
          </a:xfrm>
          <a:custGeom>
            <a:avLst/>
            <a:gdLst/>
            <a:ahLst/>
            <a:rect l="l" t="t" r="r" b="b"/>
            <a:pathLst>
              <a:path stroke="0" w="21600" h="21600">
                <a:moveTo>
                  <a:pt x="18785" y="3528"/>
                </a:moveTo>
                <a:arcTo wR="10800" hR="10800" stAng="-2539467" swAng="3962123"/>
                <a:lnTo>
                  <a:pt x="10800" y="10800"/>
                </a:lnTo>
                <a:close/>
              </a:path>
              <a:path fill="none" w="21600" h="21600">
                <a:moveTo>
                  <a:pt x="18785" y="3528"/>
                </a:moveTo>
                <a:arcTo wR="10800" hR="10800" stAng="-2539467" swAng="3962123"/>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364120" y="333360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Arial"/>
            </a:endParaRPr>
          </a:p>
        </p:txBody>
      </p:sp>
      <p:sp>
        <p:nvSpPr>
          <p:cNvPr id="205" name=""/>
          <p:cNvSpPr/>
          <p:nvPr/>
        </p:nvSpPr>
        <p:spPr>
          <a:xfrm>
            <a:off x="3890160" y="5343480"/>
            <a:ext cx="143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SQ) </a:t>
            </a:r>
            <a:r>
              <a:rPr b="0" lang="en-US" sz="1600" spc="-1" strike="noStrike">
                <a:solidFill>
                  <a:srgbClr val="000000"/>
                </a:solidFill>
                <a:latin typeface="Symbol"/>
                <a:ea typeface="Symbol"/>
              </a:rPr>
              <a:t></a:t>
            </a:r>
            <a:r>
              <a:rPr b="0" lang="en-US" sz="1600" spc="-1" strike="noStrike">
                <a:solidFill>
                  <a:srgbClr val="000000"/>
                </a:solidFill>
                <a:latin typeface="Times New Roman"/>
              </a:rPr>
              <a:t>W(B)</a:t>
            </a:r>
            <a:endParaRPr b="0" lang="en-US" sz="1600" spc="-1" strike="noStrike">
              <a:solidFill>
                <a:srgbClr val="000000"/>
              </a:solidFill>
              <a:latin typeface="Arial"/>
            </a:endParaRPr>
          </a:p>
        </p:txBody>
      </p:sp>
      <p:sp>
        <p:nvSpPr>
          <p:cNvPr id="206" name=""/>
          <p:cNvSpPr/>
          <p:nvPr/>
        </p:nvSpPr>
        <p:spPr>
          <a:xfrm>
            <a:off x="3768840" y="3333600"/>
            <a:ext cx="0" cy="628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010040" y="2957400"/>
            <a:ext cx="0" cy="10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249800" y="2705040"/>
            <a:ext cx="0" cy="1131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491000" y="2328840"/>
            <a:ext cx="0" cy="13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4732200" y="2077920"/>
            <a:ext cx="0" cy="13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973760" y="2203560"/>
            <a:ext cx="0" cy="87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046320" y="3459240"/>
            <a:ext cx="0" cy="87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165480" y="4087800"/>
            <a:ext cx="0" cy="250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4370400" y="3458880"/>
            <a:ext cx="241200" cy="150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2684520" y="4213080"/>
            <a:ext cx="241200" cy="125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65480" y="3584520"/>
            <a:ext cx="0" cy="25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flipV="1">
            <a:off x="4495680" y="2743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8" name=""/>
          <p:cNvSpPr/>
          <p:nvPr/>
        </p:nvSpPr>
        <p:spPr>
          <a:xfrm>
            <a:off x="4372200" y="220356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Arial"/>
            </a:endParaRPr>
          </a:p>
        </p:txBody>
      </p:sp>
      <p:sp>
        <p:nvSpPr>
          <p:cNvPr id="219" name=""/>
          <p:cNvSpPr/>
          <p:nvPr/>
        </p:nvSpPr>
        <p:spPr>
          <a:xfrm>
            <a:off x="2684520" y="5468760"/>
            <a:ext cx="12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590920" y="35053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677600" y="462276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Arial"/>
            </a:endParaRPr>
          </a:p>
        </p:txBody>
      </p:sp>
      <p:sp>
        <p:nvSpPr>
          <p:cNvPr id="222" name=""/>
          <p:cNvSpPr/>
          <p:nvPr/>
        </p:nvSpPr>
        <p:spPr>
          <a:xfrm>
            <a:off x="1982880" y="388620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Arial"/>
            </a:endParaRPr>
          </a:p>
        </p:txBody>
      </p:sp>
      <p:sp>
        <p:nvSpPr>
          <p:cNvPr id="223" name=""/>
          <p:cNvSpPr/>
          <p:nvPr/>
        </p:nvSpPr>
        <p:spPr>
          <a:xfrm>
            <a:off x="2209680" y="4038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H="1" flipV="1">
            <a:off x="297180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5" name=""/>
          <p:cNvSpPr/>
          <p:nvPr/>
        </p:nvSpPr>
        <p:spPr>
          <a:xfrm flipH="1" flipV="1">
            <a:off x="3124080" y="3657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6" name=""/>
          <p:cNvSpPr/>
          <p:nvPr/>
        </p:nvSpPr>
        <p:spPr>
          <a:xfrm>
            <a:off x="2743200" y="2895480"/>
            <a:ext cx="380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H="1" flipV="1">
            <a:off x="358128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8" name=""/>
          <p:cNvSpPr/>
          <p:nvPr/>
        </p:nvSpPr>
        <p:spPr>
          <a:xfrm flipH="1" flipV="1">
            <a:off x="3047400" y="4038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Veto Ex-Post</a:t>
            </a:r>
            <a:endParaRPr b="0" lang="en-US" sz="4400" spc="-1" strike="noStrike">
              <a:solidFill>
                <a:srgbClr val="000000"/>
              </a:solidFill>
              <a:latin typeface="Arial"/>
            </a:endParaRPr>
          </a:p>
        </p:txBody>
      </p:sp>
      <p:sp>
        <p:nvSpPr>
          <p:cNvPr id="2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veto ex-post torna crível a ameaça da comissão de punir desvios.</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ão há portanto deferência para com a comissão por parte do plenário, e sim uma estrutura e sequência de votos e vetos que dá à comissão esse poder.</a:t>
            </a:r>
            <a:endParaRPr b="0" lang="en-US" sz="3200" spc="-1" strike="noStrike">
              <a:solidFill>
                <a:srgbClr val="000000"/>
              </a:solidFill>
              <a:latin typeface="Arial"/>
            </a:endParaRPr>
          </a:p>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Deferência é uma propriedade de equilíbrio seqüencial (Kreps e Wilson 198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s oito mandamentos para a </a:t>
            </a:r>
            <a:r>
              <a:rPr b="0" i="1" lang="en-US" sz="4000" spc="-1" strike="noStrike">
                <a:solidFill>
                  <a:srgbClr val="000000"/>
                </a:solidFill>
                <a:latin typeface="Arial"/>
              </a:rPr>
              <a:t>credibilidade</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tar uma ação estratégica de credibilidade não é fácil, mas também não é impossív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conseguir desenvolver compromissos críve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ês caminhos são sugerid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lterar as recompensas de um jogo:</a:t>
            </a:r>
            <a:endParaRPr b="0" lang="en-US" sz="40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idéia é fazer com que os seus interesses fluam através dos seus compromissos. Ou seja, transformar uma ameaça em um aviso; uma promessa em uma certeza ou garantia.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utaçã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tos escrito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s duas táticas tornam mais custosas as possíveis quebras de compromis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lterar o jogo para limitar a capacidade de voltar atrás em um compromisso:</a:t>
            </a:r>
            <a:endParaRPr b="0" lang="en-US" sz="32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esta categoria são consideradas 4 possibilidades: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rtar a comunicação</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eimar as pontes atrás de você</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stas são as duas mais radicais, pois simplesmente você se nega a possibilidade de voltar a trás; ou se retirando da situação ou destruindo qualquer possibilidade de bater em retirada.</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ixar o resultado para além do seu controle</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xiste a possibilidade de se retirar do processo decisório e deixar que os resultados sejam submetidos a riscos indesejáveis diante da não cooperação.</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ver-se passo-a-passo</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Quando é possível se combinar a alteração do jogo (ações) e a alteração das recompensas quebrando-se os compromissos em vários menos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Usar outros para ajudar a manter os compromissos:</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balho em equip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 time pode alcançar credibilidade mais facilmente que um simples indivíduo</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egação de um mandato para um agente</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 simplesmente pode se contratar uma terceira parte para agir a seu fav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tação:</a:t>
            </a:r>
            <a:endParaRPr b="0" lang="en-US" sz="4400" spc="-1" strike="noStrike">
              <a:solidFill>
                <a:srgbClr val="000000"/>
              </a:solidFill>
              <a:latin typeface="Arial"/>
            </a:endParaRPr>
          </a:p>
        </p:txBody>
      </p:sp>
      <p:sp>
        <p:nvSpPr>
          <p:cNvPr id="119" name="PlaceHolder 2"/>
          <p:cNvSpPr>
            <a:spLocks noGrp="1"/>
          </p:cNvSpPr>
          <p:nvPr>
            <p:ph/>
          </p:nvPr>
        </p:nvSpPr>
        <p:spPr>
          <a:xfrm>
            <a:off x="457200" y="1699920"/>
            <a:ext cx="8229600" cy="4167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você tenta uma jogada estratégica e depois volta atrás, você perde reputação e deixa de ser críve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anto, numa situação de rara ocorrência, reputação pode ser de pouca importância, e assim de pouco valor para o desenvolvimento de compromissos. Mas normalmente joga-se vários jogos, com vários rivais ao mesmo tempo, ou com o mesmo rival em tempos diferentes. Logo há um incentivo para que se estabeleça reputação, que servirá como compromisso que faz sua jogada estratégica crível. (Ex. Relação Executivo-Legislativ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ém, o efeito da reputação é uma faca de dois gumes. Às vezes, destruir sua reputação pode criar possibilidades para um novo compromisso. Destruir sua reputação compromete você a não agir no futuro de modo a contrariar seus interes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atos:</a:t>
            </a:r>
            <a:endParaRPr b="0" lang="en-US" sz="4400" spc="-1" strike="noStrike">
              <a:solidFill>
                <a:srgbClr val="000000"/>
              </a:solidFill>
              <a:latin typeface="Arial"/>
            </a:endParaRPr>
          </a:p>
        </p:txBody>
      </p:sp>
      <p:sp>
        <p:nvSpPr>
          <p:cNvPr id="121"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a maneira de fazer com que seu compromisso seja crível é concordar com uma punição caso você falhe em cumpri-lo.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 contrato é uma espécie de acessório do compromisso</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 para que a abordagem do contrato seja bem sucedida, a parte que se beneficia da multa deve ter algum incentivo independente para concordar com e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 contrato quebrado, tipicamente produz algum dano. E a parte lesada não vai querer desistir do contrato sem receber uma compensação. Mas normalmente é preferível para as partes que o contrato seja respeitado do que venham a receber alguma soma de mult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 possível escrever contratos com partes neutras. A parte neutra é aquela que é indiferente à sustentação do acordo do contrat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 contratos não podem isoladamente superar o problema da credibilidade. Eles precisam de ferramentas adicionais tais como partes com interesses independentes no cumprimento da sanção ou por à prova a reputação dos infrat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tando a comunicação:</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tar a comunicação pode funcionar como um elemento de compromissos críveis uma vez que tornam as ações verdadeiramente irreversíveis (ex. testamento).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á um grande problema com esta estratégia. Se você está incomunicável será muito difícil, ou mesmo impossível ter certeza de que seu rival concorda com o que você quer. Você precisará contratar outros para averiguar a se o contrato está sendo honr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18:46:20Z</dcterms:created>
  <dc:creator>Carlos Pereira</dc:creator>
  <dc:description/>
  <dc:language>en-US</dc:language>
  <cp:lastModifiedBy>Carlos Pereira</cp:lastModifiedBy>
  <dcterms:modified xsi:type="dcterms:W3CDTF">2004-10-14T00:39:12Z</dcterms:modified>
  <cp:revision>14</cp:revision>
  <dc:subject/>
  <dc:title>Escolha Social, Estratégia e Racionalidade:  Uma Introdução à Teoria dos Jogos na Polí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7715721</vt:r8>
  </property>
  <property fmtid="{D5CDD505-2E9C-101B-9397-08002B2CF9AE}" pid="3" name="_AuthorEmail">
    <vt:lpwstr>capereira@usp.br</vt:lpwstr>
  </property>
  <property fmtid="{D5CDD505-2E9C-101B-9397-08002B2CF9AE}" pid="4" name="_AuthorEmailDisplayName">
    <vt:lpwstr>Carlos Pereira</vt:lpwstr>
  </property>
  <property fmtid="{D5CDD505-2E9C-101B-9397-08002B2CF9AE}" pid="5" name="_EmailSubject">
    <vt:lpwstr>nova aula</vt:lpwstr>
  </property>
</Properties>
</file>